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E059-DC07-44ED-AB5B-B31E7B01FC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2C6C-D263-448F-BF86-8F2669A1EF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09DA-7160-4246-A810-B7761144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28C-756E-44B1-B16D-CFD587A1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69C-1F08-4161-BDC1-5987A185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F8C-EFEE-4779-96DE-01025690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A11-B8EF-4BB8-B78F-E946350C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BD7-C6F5-49D6-B0E2-0DA53B39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8EFD-BB6A-483B-9F54-49B93A72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BF2-663B-457F-ABD4-1BE6FB13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D58-324C-48C8-966E-ED08A2ED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805-CB5F-4604-9F34-71103841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A97D-6314-4F10-85EC-08DEEB0B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BD37-8D75-445C-A3A3-ED84D69E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E40C-A7FB-4A54-9917-2435ACC11A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9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11592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262160" y="2349360"/>
            <a:ext cx="678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95280" y="2770200"/>
            <a:ext cx="4025880" cy="281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932360" y="2698920"/>
            <a:ext cx="3736800" cy="2890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66760" y="2138400"/>
            <a:ext cx="5010120" cy="4446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2"/>
              <p:cNvSpPr txBox="1"/>
              <p:nvPr/>
            </p:nvSpPr>
            <p:spPr>
              <a:xfrm>
                <a:off x="6172200" y="3716280"/>
                <a:ext cx="23367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643360" y="306864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связи (кратность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8480" y="2565360"/>
          <a:ext cx="8194680" cy="2808360"/>
        </p:xfrm>
        <a:graphic>
          <a:graphicData uri="http://schemas.openxmlformats.org/drawingml/2006/table">
            <a:tbl>
              <a:tblPr/>
              <a:tblGrid>
                <a:gridCol w="1638360"/>
                <a:gridCol w="1640160"/>
                <a:gridCol w="1638000"/>
                <a:gridCol w="1640160"/>
                <a:gridCol w="1638000"/>
              </a:tblGrid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в, кДж/м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 (С - С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-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=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С ≡ 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670040" y="2143080"/>
            <a:ext cx="5911920" cy="4705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2411280" y="1322280"/>
            <a:ext cx="455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419200" y="1341360"/>
            <a:ext cx="4168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882800" y="2138400"/>
            <a:ext cx="5857920" cy="29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2195640" y="5300640"/>
            <a:ext cx="5325840" cy="14414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647880" y="17384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003400" y="2087640"/>
            <a:ext cx="5546880" cy="4770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7155000" cy="4464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3276720" y="2333520"/>
            <a:ext cx="3012840" cy="1185840"/>
            <a:chOff x="3276720" y="2333520"/>
            <a:chExt cx="3012840" cy="1185840"/>
          </a:xfrm>
        </p:grpSpPr>
        <p:pic>
          <p:nvPicPr>
            <p:cNvPr id="148" name="Picture 9" descr="gl311"/>
            <p:cNvPicPr/>
            <p:nvPr/>
          </p:nvPicPr>
          <p:blipFill>
            <a:blip r:embed="rId2"/>
            <a:srcRect l="37201" t="7373" r="37994" b="4229"/>
            <a:stretch/>
          </p:blipFill>
          <p:spPr>
            <a:xfrm>
              <a:off x="4629240" y="2333520"/>
              <a:ext cx="98892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Oval 10"/>
            <p:cNvSpPr/>
            <p:nvPr/>
          </p:nvSpPr>
          <p:spPr>
            <a:xfrm>
              <a:off x="3276720" y="2333520"/>
              <a:ext cx="3012840" cy="11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3505320" y="2447640"/>
              <a:ext cx="539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564160" y="2447640"/>
              <a:ext cx="63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Picture 13" descr="gl311"/>
            <p:cNvPicPr/>
            <p:nvPr/>
          </p:nvPicPr>
          <p:blipFill>
            <a:blip r:embed="rId3"/>
            <a:srcRect l="10973" t="23091" r="70169" b="34656"/>
            <a:stretch/>
          </p:blipFill>
          <p:spPr>
            <a:xfrm>
              <a:off x="3689280" y="2693880"/>
              <a:ext cx="5842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4" descr="gl311"/>
            <p:cNvPicPr/>
            <p:nvPr/>
          </p:nvPicPr>
          <p:blipFill>
            <a:blip r:embed="rId4"/>
            <a:srcRect l="10973" t="23091" r="70169" b="34656"/>
            <a:stretch/>
          </p:blipFill>
          <p:spPr>
            <a:xfrm>
              <a:off x="5618160" y="2727360"/>
              <a:ext cx="528840" cy="3981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54" name="Object 16"/>
              <p:cNvSpPr txBox="1"/>
              <p:nvPr/>
            </p:nvSpPr>
            <p:spPr>
              <a:xfrm>
                <a:off x="3684600" y="3860640"/>
                <a:ext cx="234792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5" name="Text Box 17"/>
          <p:cNvSpPr/>
          <p:nvPr/>
        </p:nvSpPr>
        <p:spPr>
          <a:xfrm>
            <a:off x="179280" y="54468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язь в молекуле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олярная, имеет на 1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% ионный харак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44520" y="1844640"/>
            <a:ext cx="67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химической связ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Объект 1"/>
              <p:cNvSpPr txBox="1"/>
              <p:nvPr/>
            </p:nvSpPr>
            <p:spPr>
              <a:xfrm>
                <a:off x="3490920" y="3860640"/>
                <a:ext cx="252108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Объект 2"/>
              <p:cNvSpPr txBox="1"/>
              <p:nvPr/>
            </p:nvSpPr>
            <p:spPr>
              <a:xfrm>
                <a:off x="2413080" y="5516640"/>
                <a:ext cx="4895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Кл</m:t>
                    </m:r>
                    <m:r>
                      <m:t xml:space="preserve">⋅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Picture 8" descr=""/>
          <p:cNvPicPr/>
          <p:nvPr/>
        </p:nvPicPr>
        <p:blipFill>
          <a:blip r:embed="rId2"/>
          <a:stretch/>
        </p:blipFill>
        <p:spPr>
          <a:xfrm>
            <a:off x="3201840" y="1916280"/>
            <a:ext cx="3098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0"/>
          <p:cNvGrpSpPr/>
          <p:nvPr/>
        </p:nvGrpSpPr>
        <p:grpSpPr>
          <a:xfrm>
            <a:off x="2195640" y="1911240"/>
            <a:ext cx="5111280" cy="1949760"/>
            <a:chOff x="2195640" y="1911240"/>
            <a:chExt cx="5111280" cy="1949760"/>
          </a:xfrm>
        </p:grpSpPr>
        <p:sp>
          <p:nvSpPr>
            <p:cNvPr id="165" name="Text Box 23"/>
            <p:cNvSpPr/>
            <p:nvPr/>
          </p:nvSpPr>
          <p:spPr>
            <a:xfrm>
              <a:off x="3654360" y="1982880"/>
              <a:ext cx="57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5292720" y="1911240"/>
              <a:ext cx="617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29"/>
            <p:cNvGrpSpPr/>
            <p:nvPr/>
          </p:nvGrpSpPr>
          <p:grpSpPr>
            <a:xfrm>
              <a:off x="2195640" y="2270160"/>
              <a:ext cx="5111280" cy="1590840"/>
              <a:chOff x="2195640" y="2270160"/>
              <a:chExt cx="5111280" cy="1590840"/>
            </a:xfrm>
          </p:grpSpPr>
          <p:sp>
            <p:nvSpPr>
              <p:cNvPr id="168" name="Oval 8"/>
              <p:cNvSpPr/>
              <p:nvPr/>
            </p:nvSpPr>
            <p:spPr>
              <a:xfrm>
                <a:off x="4284720" y="2270160"/>
                <a:ext cx="934560" cy="936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9"/>
              <p:cNvSpPr/>
              <p:nvPr/>
            </p:nvSpPr>
            <p:spPr>
              <a:xfrm>
                <a:off x="4502160" y="2487600"/>
                <a:ext cx="57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е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0" name="Group 12"/>
              <p:cNvGrpSpPr/>
              <p:nvPr/>
            </p:nvGrpSpPr>
            <p:grpSpPr>
              <a:xfrm>
                <a:off x="2195640" y="2414520"/>
                <a:ext cx="647640" cy="652680"/>
                <a:chOff x="2195640" y="2414520"/>
                <a:chExt cx="647640" cy="652680"/>
              </a:xfrm>
            </p:grpSpPr>
            <p:sp>
              <p:nvSpPr>
                <p:cNvPr id="171" name="Oval 10"/>
                <p:cNvSpPr/>
                <p:nvPr/>
              </p:nvSpPr>
              <p:spPr>
                <a:xfrm>
                  <a:off x="2195640" y="2414520"/>
                  <a:ext cx="64764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11"/>
                <p:cNvSpPr/>
                <p:nvPr/>
              </p:nvSpPr>
              <p:spPr>
                <a:xfrm>
                  <a:off x="2340000" y="248580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13"/>
              <p:cNvGrpSpPr/>
              <p:nvPr/>
            </p:nvGrpSpPr>
            <p:grpSpPr>
              <a:xfrm>
                <a:off x="6659640" y="2343240"/>
                <a:ext cx="647280" cy="652680"/>
                <a:chOff x="6659640" y="2343240"/>
                <a:chExt cx="647280" cy="652680"/>
              </a:xfrm>
            </p:grpSpPr>
            <p:sp>
              <p:nvSpPr>
                <p:cNvPr id="174" name="Oval 14"/>
                <p:cNvSpPr/>
                <p:nvPr/>
              </p:nvSpPr>
              <p:spPr>
                <a:xfrm>
                  <a:off x="6659640" y="2343240"/>
                  <a:ext cx="64728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 Box 15"/>
                <p:cNvSpPr/>
                <p:nvPr/>
              </p:nvSpPr>
              <p:spPr>
                <a:xfrm>
                  <a:off x="6803640" y="24145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6" name="Line 17"/>
              <p:cNvSpPr/>
              <p:nvPr/>
            </p:nvSpPr>
            <p:spPr>
              <a:xfrm>
                <a:off x="5219640" y="2703600"/>
                <a:ext cx="136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4284720" y="2774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19"/>
              <p:cNvSpPr/>
              <p:nvPr/>
            </p:nvSpPr>
            <p:spPr>
              <a:xfrm>
                <a:off x="2916000" y="270360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21"/>
              <p:cNvSpPr/>
              <p:nvPr/>
            </p:nvSpPr>
            <p:spPr>
              <a:xfrm>
                <a:off x="5219640" y="2703600"/>
                <a:ext cx="86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22"/>
              <p:cNvSpPr/>
              <p:nvPr/>
            </p:nvSpPr>
            <p:spPr>
              <a:xfrm flipH="1">
                <a:off x="3418920" y="2703600"/>
                <a:ext cx="86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25"/>
              <p:cNvSpPr/>
              <p:nvPr/>
            </p:nvSpPr>
            <p:spPr>
              <a:xfrm>
                <a:off x="4456800" y="3279600"/>
                <a:ext cx="79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26"/>
              <p:cNvSpPr/>
              <p:nvPr/>
            </p:nvSpPr>
            <p:spPr>
              <a:xfrm>
                <a:off x="232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27"/>
              <p:cNvSpPr/>
              <p:nvPr/>
            </p:nvSpPr>
            <p:spPr>
              <a:xfrm>
                <a:off x="673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4" name="Прямоугольник 24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"/>
              <p:cNvSpPr txBox="1"/>
              <p:nvPr/>
            </p:nvSpPr>
            <p:spPr>
              <a:xfrm>
                <a:off x="2844720" y="4076640"/>
                <a:ext cx="3889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37"/>
          <p:cNvGrpSpPr/>
          <p:nvPr/>
        </p:nvGrpSpPr>
        <p:grpSpPr>
          <a:xfrm>
            <a:off x="1547640" y="2131920"/>
            <a:ext cx="2859120" cy="2304720"/>
            <a:chOff x="1547640" y="2131920"/>
            <a:chExt cx="2859120" cy="2304720"/>
          </a:xfrm>
        </p:grpSpPr>
        <p:sp>
          <p:nvSpPr>
            <p:cNvPr id="190" name="Oval 4"/>
            <p:cNvSpPr/>
            <p:nvPr/>
          </p:nvSpPr>
          <p:spPr>
            <a:xfrm>
              <a:off x="3492360" y="285084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5"/>
            <p:cNvSpPr/>
            <p:nvPr/>
          </p:nvSpPr>
          <p:spPr>
            <a:xfrm>
              <a:off x="3709800" y="29955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Group 8"/>
            <p:cNvGrpSpPr/>
            <p:nvPr/>
          </p:nvGrpSpPr>
          <p:grpSpPr>
            <a:xfrm>
              <a:off x="2195640" y="3787560"/>
              <a:ext cx="718920" cy="649080"/>
              <a:chOff x="2195640" y="3787560"/>
              <a:chExt cx="718920" cy="649080"/>
            </a:xfrm>
          </p:grpSpPr>
          <p:sp>
            <p:nvSpPr>
              <p:cNvPr id="193" name="Oval 6"/>
              <p:cNvSpPr/>
              <p:nvPr/>
            </p:nvSpPr>
            <p:spPr>
              <a:xfrm>
                <a:off x="2195640" y="378756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 Box 7"/>
              <p:cNvSpPr/>
              <p:nvPr/>
            </p:nvSpPr>
            <p:spPr>
              <a:xfrm>
                <a:off x="2266920" y="378756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Group 9"/>
            <p:cNvGrpSpPr/>
            <p:nvPr/>
          </p:nvGrpSpPr>
          <p:grpSpPr>
            <a:xfrm>
              <a:off x="2197080" y="2131920"/>
              <a:ext cx="718920" cy="649080"/>
              <a:chOff x="2197080" y="2131920"/>
              <a:chExt cx="718920" cy="649080"/>
            </a:xfrm>
          </p:grpSpPr>
          <p:sp>
            <p:nvSpPr>
              <p:cNvPr id="196" name="Oval 10"/>
              <p:cNvSpPr/>
              <p:nvPr/>
            </p:nvSpPr>
            <p:spPr>
              <a:xfrm>
                <a:off x="2197080" y="213192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 Box 11"/>
              <p:cNvSpPr/>
              <p:nvPr/>
            </p:nvSpPr>
            <p:spPr>
              <a:xfrm>
                <a:off x="2268360" y="213192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Line 12"/>
            <p:cNvSpPr/>
            <p:nvPr/>
          </p:nvSpPr>
          <p:spPr>
            <a:xfrm flipH="1" flipV="1">
              <a:off x="2916000" y="2563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 flipH="1">
              <a:off x="2916000" y="3571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1547640" y="2131920"/>
              <a:ext cx="6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1567440" y="3787560"/>
              <a:ext cx="58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2716920" y="2995560"/>
              <a:ext cx="7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38"/>
          <p:cNvGrpSpPr/>
          <p:nvPr/>
        </p:nvGrpSpPr>
        <p:grpSpPr>
          <a:xfrm>
            <a:off x="4354560" y="1557360"/>
            <a:ext cx="2247840" cy="3456000"/>
            <a:chOff x="4354560" y="1557360"/>
            <a:chExt cx="2247840" cy="3456000"/>
          </a:xfrm>
        </p:grpSpPr>
        <p:sp>
          <p:nvSpPr>
            <p:cNvPr id="204" name="Line 17"/>
            <p:cNvSpPr/>
            <p:nvPr/>
          </p:nvSpPr>
          <p:spPr>
            <a:xfrm flipV="1">
              <a:off x="4354560" y="2495520"/>
              <a:ext cx="86508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4356000" y="3572640"/>
              <a:ext cx="792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427640" y="328608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5219640" y="2565360"/>
              <a:ext cx="86508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21"/>
            <p:cNvSpPr/>
            <p:nvPr/>
          </p:nvSpPr>
          <p:spPr>
            <a:xfrm flipH="1">
              <a:off x="5076720" y="3286080"/>
              <a:ext cx="1008000" cy="863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27"/>
                <p:cNvSpPr txBox="1"/>
                <p:nvPr/>
              </p:nvSpPr>
              <p:spPr>
                <a:xfrm>
                  <a:off x="4932360" y="1557360"/>
                  <a:ext cx="5842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29"/>
                <p:cNvSpPr txBox="1"/>
                <p:nvPr/>
              </p:nvSpPr>
              <p:spPr>
                <a:xfrm>
                  <a:off x="4842000" y="4078440"/>
                  <a:ext cx="6220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30"/>
                <p:cNvSpPr txBox="1"/>
                <p:nvPr/>
              </p:nvSpPr>
              <p:spPr>
                <a:xfrm>
                  <a:off x="6135840" y="2638440"/>
                  <a:ext cx="4665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μ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Объект 1"/>
              <p:cNvSpPr txBox="1"/>
              <p:nvPr/>
            </p:nvSpPr>
            <p:spPr>
              <a:xfrm>
                <a:off x="1908000" y="4869000"/>
                <a:ext cx="5256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4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62728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399708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4626000" y="2016000"/>
            <a:ext cx="41036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3"/>
          <a:stretch/>
        </p:blipFill>
        <p:spPr>
          <a:xfrm>
            <a:off x="539640" y="1962000"/>
            <a:ext cx="38163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262160" y="2133720"/>
            <a:ext cx="6618240" cy="2808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108000" y="5516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салициловый альдеги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 – гидроксибензальдеги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340000" y="1268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843120" y="2060640"/>
            <a:ext cx="2358720" cy="33368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-26352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 Дидерик Ван-дер-Ваа́ль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ноября 1837 — 8 марта 19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Объект 18"/>
              <p:cNvSpPr txBox="1"/>
              <p:nvPr/>
            </p:nvSpPr>
            <p:spPr>
              <a:xfrm>
                <a:off x="5264280" y="2311560"/>
                <a:ext cx="204444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К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Объект 19"/>
              <p:cNvSpPr txBox="1"/>
              <p:nvPr/>
            </p:nvSpPr>
            <p:spPr>
              <a:xfrm>
                <a:off x="5189400" y="3828960"/>
                <a:ext cx="19749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L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Объект 20"/>
              <p:cNvSpPr txBox="1"/>
              <p:nvPr/>
            </p:nvSpPr>
            <p:spPr>
              <a:xfrm>
                <a:off x="5334120" y="5499000"/>
                <a:ext cx="20509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hυ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Rectangle 22"/>
          <p:cNvSpPr/>
          <p:nvPr/>
        </p:nvSpPr>
        <p:spPr>
          <a:xfrm>
            <a:off x="3815640" y="90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6"/>
          <p:cNvSpPr/>
          <p:nvPr/>
        </p:nvSpPr>
        <p:spPr>
          <a:xfrm>
            <a:off x="4450680" y="191628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ь-диполь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4554720" y="34290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ц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29"/>
          <p:cNvSpPr/>
          <p:nvPr/>
        </p:nvSpPr>
        <p:spPr>
          <a:xfrm>
            <a:off x="4708440" y="49975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с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76360" y="2187720"/>
            <a:ext cx="2735280" cy="3421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3843360" y="4365720"/>
            <a:ext cx="48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выдвинул гипотезу, которая легла в основу теории ионной химической связи и гетеровален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3843360" y="2216160"/>
            <a:ext cx="51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тер Коссель (нем. Walther Kossel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января 1888 — 22 мая 195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792000" y="1989000"/>
            <a:ext cx="741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+Cl=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ние ион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разование молекулы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-66600" y="24732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лберт Ньютон Льюис (англ. Gilbert Newton Lew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октября 1875 — 23 марта 194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13640" y="2473200"/>
            <a:ext cx="234288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93680" y="4149720"/>
            <a:ext cx="64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Льюис высказал идею, что ковалентная химическая связь образуется за счёт обобществления пары электронов, то есть электронная плотность распределяется между двумя ато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2475000" y="2421000"/>
            <a:ext cx="4282920" cy="151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614600" y="4149720"/>
            <a:ext cx="60228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75610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69920" y="2133720"/>
            <a:ext cx="4232160" cy="40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610160" y="3284640"/>
            <a:ext cx="446256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619280" y="61358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378120" y="614664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11280" y="2982960"/>
            <a:ext cx="3852720" cy="224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4811760" y="2484360"/>
            <a:ext cx="4130640" cy="3248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0:35:54Z</dcterms:created>
  <dc:creator>Кужаров</dc:creator>
  <dc:description/>
  <dc:language>en-US</dc:language>
  <cp:lastModifiedBy>Кужаров</cp:lastModifiedBy>
  <dcterms:modified xsi:type="dcterms:W3CDTF">2011-09-13T09:29:52Z</dcterms:modified>
  <cp:revision>25</cp:revision>
  <dc:subject/>
  <dc:title>            Донской государственный технический университет      Кафедра «Химия» ________________________________________________________</dc:title>
</cp:coreProperties>
</file>