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png" ContentType="image/png"/>
  <Override PartName="/ppt/media/image6.jpeg" ContentType="image/jpeg"/>
  <Override PartName="/ppt/media/image5.wmf" ContentType="image/x-wmf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.jpeg" ContentType="image/jpeg"/>
  <Override PartName="/ppt/media/image15.wmf" ContentType="image/x-wmf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2217-0BE1-44FF-9958-A1CCFEEBB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2BFF-485B-48B5-8AA8-1336BC019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0599-EE0E-4DB9-9EB6-F4D78E469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E79D-ABDF-4127-9DEB-CA12E9419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81A0-35BF-456B-A917-0A4105DD8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6228-8778-4D5E-9574-AA350AAE9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14D0-3EA3-47E9-9717-DB07DE1BB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B0BA-32E8-4C79-BDF8-28C82BFDF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587D-F4AF-403C-B557-A29005D4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5AC6-A0EB-4728-8D16-F299C171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E5BC-59AF-42AA-8D89-EC0BE28B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E120-7118-4CB5-B32E-994F1857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B916C-7007-4B5E-9E27-A4D9CBBD5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1.jpe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90;&#1086;&#1084;&#1085;&#1072;&#1103;_&#1084;&#1072;&#1089;&#1089;&#1072;" TargetMode="External"/><Relationship Id="rId2" Type="http://schemas.openxmlformats.org/officeDocument/2006/relationships/hyperlink" Target="http://ru.wikipedia.org/wiki/&#1041;&#1077;&#1088;&#1080;&#1083;&#1083;&#1080;&#1081;" TargetMode="External"/><Relationship Id="rId3" Type="http://schemas.openxmlformats.org/officeDocument/2006/relationships/hyperlink" Target="http://ru.wikipedia.org/wiki/&#1048;&#1085;&#1076;&#1080;&#1081;" TargetMode="External"/><Relationship Id="rId4" Type="http://schemas.openxmlformats.org/officeDocument/2006/relationships/hyperlink" Target="http://ru.wikipedia.org/wiki/&#1059;&#1088;&#1072;&#1085;_(&#1101;&#1083;&#1077;&#1084;&#1077;&#1085;&#1090;)" TargetMode="External"/><Relationship Id="rId5" Type="http://schemas.openxmlformats.org/officeDocument/2006/relationships/hyperlink" Target="http://ru.wikipedia.org/wiki/&#1058;&#1086;&#1088;&#1080;&#1081;" TargetMode="External"/><Relationship Id="rId6" Type="http://schemas.openxmlformats.org/officeDocument/2006/relationships/hyperlink" Target="http://ru.wikipedia.org/wiki/&#1062;&#1077;&#1088;&#1080;&#1081;" TargetMode="External"/><Relationship Id="rId7" Type="http://schemas.openxmlformats.org/officeDocument/2006/relationships/image" Target="../media/image15.wmf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екция 2.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 Периодический закон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   Д.И. Менделее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223640" cy="1152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95640" y="549360"/>
            <a:ext cx="6430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Донской государственный технический университе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Факультет нанотехнологии и композиционные материалы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Кафедра «Хим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370920" y="4365720"/>
            <a:ext cx="132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Кужаров А.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Новик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0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уктура современной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иодической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7200720" cy="5100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715160" y="2421000"/>
            <a:ext cx="1428840" cy="2160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39640" y="2781360"/>
            <a:ext cx="1505160" cy="8287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5219640" y="2133720"/>
            <a:ext cx="1524240" cy="8380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3780000" y="2997360"/>
            <a:ext cx="1523880" cy="828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5435640" y="2997360"/>
            <a:ext cx="1542960" cy="828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8"/>
          <a:stretch/>
        </p:blipFill>
        <p:spPr>
          <a:xfrm>
            <a:off x="2916360" y="3860640"/>
            <a:ext cx="3162240" cy="8668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он Моз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29527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вадратный корень из частоты для каждой линии спектра рентгеновских лучей есть приблизительно линейная функция атомного номер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— постоянная Ридбер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— постоянная экранир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— главное квантовое чис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\sqrt{\frac{\nu}{R}} = \frac{Z-S_n}{n}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611280" y="3068640"/>
            <a:ext cx="2232000" cy="755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960720" y="1125360"/>
            <a:ext cx="5183280" cy="41259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547640" y="2997360"/>
            <a:ext cx="7417080" cy="9363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108" name=""/>
          <p:cNvSpPr/>
          <p:nvPr/>
        </p:nvSpPr>
        <p:spPr>
          <a:xfrm flipH="1">
            <a:off x="5076360" y="2276640"/>
            <a:ext cx="358920" cy="6476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80000" y="1700280"/>
            <a:ext cx="4824360" cy="576360"/>
          </a:xfrm>
          <a:prstGeom prst="ellips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19280" y="274680"/>
            <a:ext cx="70675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Причины периоди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1979640" y="1052640"/>
          <a:ext cx="5759280" cy="5556240"/>
        </p:xfrm>
        <a:graphic>
          <a:graphicData uri="http://schemas.openxmlformats.org/drawingml/2006/table">
            <a:tbl>
              <a:tblPr/>
              <a:tblGrid>
                <a:gridCol w="716040"/>
                <a:gridCol w="2008080"/>
                <a:gridCol w="303516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мический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мен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ктронная формул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46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ru-RU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23640" y="259920"/>
            <a:ext cx="657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временная формулировка Периодического зак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Свойства химических элементов находятся в периодической зависимости от заряда ядер атомов химических элемент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висимость радиуса атома от порядкового номера элем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1314360"/>
            <a:ext cx="8964720" cy="52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нергия ион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258920" y="2924280"/>
          <a:ext cx="6443640" cy="730080"/>
        </p:xfrm>
        <a:graphic>
          <a:graphicData uri="http://schemas.openxmlformats.org/drawingml/2006/table">
            <a:tbl>
              <a:tblPr/>
              <a:tblGrid>
                <a:gridCol w="804960"/>
                <a:gridCol w="806400"/>
                <a:gridCol w="804960"/>
                <a:gridCol w="806400"/>
                <a:gridCol w="804600"/>
                <a:gridCol w="804960"/>
                <a:gridCol w="806400"/>
                <a:gridCol w="8049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9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,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,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424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нергией ионизации (потенциалом ионизации) - работа, необходимая для отрыва электрона от нейтрального ато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 – ē = Э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42920" y="227664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вый потенциал ионизации элементов третьего перио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700360" y="4797360"/>
          <a:ext cx="4032000" cy="1152360"/>
        </p:xfrm>
        <a:graphic>
          <a:graphicData uri="http://schemas.openxmlformats.org/drawingml/2006/table">
            <a:tbl>
              <a:tblPr/>
              <a:tblGrid>
                <a:gridCol w="2275560"/>
                <a:gridCol w="1756440"/>
              </a:tblGrid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- ē=Li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3,39 э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ē=Li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75,62 э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ē=Li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122,42 э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971640" y="3933720"/>
            <a:ext cx="74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торой и третий потенциал ионизации значительно выше, чем первый, на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63280" y="259920"/>
            <a:ext cx="7380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висимость первого потенциала ионизации от порядкового номера элем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2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нергия сродства к электро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24000" y="3357720"/>
          <a:ext cx="8362800" cy="793440"/>
        </p:xfrm>
        <a:graphic>
          <a:graphicData uri="http://schemas.openxmlformats.org/drawingml/2006/table">
            <a:tbl>
              <a:tblPr/>
              <a:tblGrid>
                <a:gridCol w="1234800"/>
                <a:gridCol w="1017720"/>
                <a:gridCol w="1019160"/>
                <a:gridCol w="1017720"/>
                <a:gridCol w="1019160"/>
                <a:gridCol w="1017360"/>
                <a:gridCol w="1019160"/>
                <a:gridCol w="1017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эв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личество энергии, выделяемое нейтральным атомом, находящимся в состоянии с наименьшей энергией, при присоединении к нему одного электро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Э + ē = Э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484360" y="5300640"/>
          <a:ext cx="4038480" cy="968400"/>
        </p:xfrm>
        <a:graphic>
          <a:graphicData uri="http://schemas.openxmlformats.org/drawingml/2006/table">
            <a:tbl>
              <a:tblPr/>
              <a:tblGrid>
                <a:gridCol w="1101600"/>
                <a:gridCol w="1101600"/>
                <a:gridCol w="1101960"/>
                <a:gridCol w="733320"/>
              </a:tblGrid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2050920" y="285264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менение сродства к электрону по период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47640" y="458136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менение сродства к электрону по подгруппе, э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71503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лектроотрица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ера относительной способности  атомов оттягивать на себя общую электронную пару при образовании химической связ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Э.О.=J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Е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с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46280" y="88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826920" y="2133720"/>
          <a:ext cx="7056360" cy="4089240"/>
        </p:xfrm>
        <a:graphic>
          <a:graphicData uri="http://schemas.openxmlformats.org/drawingml/2006/table">
            <a:tbl>
              <a:tblPr/>
              <a:tblGrid>
                <a:gridCol w="388800"/>
                <a:gridCol w="793800"/>
                <a:gridCol w="622440"/>
                <a:gridCol w="498240"/>
                <a:gridCol w="685800"/>
                <a:gridCol w="747720"/>
                <a:gridCol w="935280"/>
                <a:gridCol w="834840"/>
                <a:gridCol w="595440"/>
                <a:gridCol w="531720"/>
                <a:gridCol w="422280"/>
              </a:tblGrid>
              <a:tr h="231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            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Электроотрицательность элемен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              0.9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             1.4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            2.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               1.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g           1.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            1.4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           1.7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        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8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                                                                  0.9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                                  1.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       1.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4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6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6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0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n            1.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             1.8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         2.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4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7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r              0.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      1.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d 1.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0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d                  1.4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   1.4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8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           0.9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1.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f           1.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t 1.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g                                  1.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1.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b             1.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t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h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           0.9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      1.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Лантаноиды- 1.08-1.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*Актиноиды   1.00-1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11280" y="6308640"/>
            <a:ext cx="792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Таблица электроотрицательности по Полинг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Рекомендуемая литератур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d06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06aa"/>
                </a:solidFill>
                <a:latin typeface="Arial"/>
              </a:rPr>
              <a:t>Кужаров А.С. Общая химия в машиностроительном ВУЗЕ. Конспект лекций для инженеров, Ростов-на-Дону, 199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d06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06aa"/>
                </a:solidFill>
                <a:latin typeface="Arial"/>
              </a:rPr>
              <a:t>Ахметов Н.С. Общая и неорганическая химия, М., 20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d06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06aa"/>
                </a:solidFill>
                <a:latin typeface="Arial"/>
              </a:rPr>
              <a:t>Глинка Н.Л. Общая химия, М., 200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d06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06aa"/>
                </a:solidFill>
                <a:latin typeface="Arial"/>
              </a:rPr>
              <a:t>Некрасов Б.В. Курс обшей химии, М., 1962 – 20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.В.Коровин Общая химия, М.: Высшая школа, 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.И.Гельфман, В.П.Юстратов Химия, СПб.: Лань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chemistry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chem.msu.su/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тория открытия. Предшествен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752720" cy="33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3787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ило триад Дёберейне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829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расположить три сходных по химическим свойствам элемента в порядке возрастания их атомных весов, то атомный вес второго элемента будет равен среднему арифметическому атомных весов первого и треть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Литий Li: 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(Li)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6,941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а.е.м</a:t>
            </a:r>
            <a:r>
              <a:rPr b="0" lang="ru-RU" sz="1800" spc="-1" strike="noStrike" baseline="-25000">
                <a:solidFill>
                  <a:srgbClr val="0099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Натрий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Na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Na)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= 2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99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а.е.м.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Калий K: 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(K) =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39,1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02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а.е.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Na)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=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 ½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Li)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+ 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)) ≈ 23,0 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а.е.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292720" y="981000"/>
            <a:ext cx="2949480" cy="2268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651640" y="3284640"/>
            <a:ext cx="2222280" cy="2763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095080" y="6093000"/>
            <a:ext cx="3184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Иоганн Вольфганг Дёберейнер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1780-184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66452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ираль Шанкурту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95280" y="3075120"/>
            <a:ext cx="4105440" cy="3552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00000" y="1197000"/>
            <a:ext cx="3278160" cy="1803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724360" y="3141720"/>
            <a:ext cx="2232360" cy="2951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866480" y="6093000"/>
            <a:ext cx="399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Александр Эмиль Бегуйе де Шанкурту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1820-18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11640" y="981000"/>
            <a:ext cx="457200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Земная спираль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Шанкурту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1862 г.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боковую поверхность цилиндра, разделенную на 16 частей, нанесена линия под углом 45°, на которой отмечены точки, соответствующие атомным весам элемент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ходные по свойствам элементы группируются на одной вертикальной ли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25092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19280" y="115560"/>
            <a:ext cx="678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он октав Ньюленд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227640" y="3357720"/>
            <a:ext cx="1951200" cy="2681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24000" y="4076640"/>
            <a:ext cx="4968720" cy="25084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81520" y="692280"/>
            <a:ext cx="346248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1865 г. Ньюлендс опубликовал таблицу элементов, назвав её «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коном окта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омера аналогичных элемент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как правило,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тличаютс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целое число сем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или на кратное семи; другими словами, члены одной и той же группы соотносятся друг с другом в том же отношении,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к и крайние точки одной или больш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ктав в музык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03640" y="6058080"/>
            <a:ext cx="397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Джон Александр Рейна Ньюлендс, 1837-1898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79280" y="1268280"/>
            <a:ext cx="5364360" cy="2881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79280" y="1341360"/>
            <a:ext cx="432000" cy="287964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4005360"/>
            <a:ext cx="1079640" cy="7207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1871640" y="4473360"/>
            <a:ext cx="71280" cy="1871640"/>
          </a:xfrm>
          <a:custGeom>
            <a:avLst/>
            <a:gdLst>
              <a:gd name="textAreaLeft" fmla="*/ 45720 w 71280"/>
              <a:gd name="textAreaRight" fmla="*/ 71640 w 71280"/>
              <a:gd name="textAreaTop" fmla="*/ 48600 h 1871640"/>
              <a:gd name="textAreaBottom" fmla="*/ 1823040 h 18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50920" y="1628640"/>
            <a:ext cx="64800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17928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блица Мейе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372360" y="3716280"/>
            <a:ext cx="2090520" cy="24764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867280" y="836640"/>
            <a:ext cx="327672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864 г. Мейер опубликовал таблицу из 28 элементов, группируя их по валентности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rtig}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 ограничил число элементов, чтобы подчеркнуть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кономерное изменение атомной массы в рядах подобных элемен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блица 1870 г. состояла из девяти столбц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которые ячейки таблицы Мейер оставил незаполненны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51640" y="6276960"/>
            <a:ext cx="326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Юлиус Лотар Мейер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1830-189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660640"/>
            <a:ext cx="416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аблица Мейера 1864 г. (фрагмент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5830920" cy="37641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67280" y="4724280"/>
            <a:ext cx="1009440" cy="433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1280" y="2349360"/>
            <a:ext cx="540072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.И. Менделе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124000" y="692280"/>
            <a:ext cx="2195640" cy="2447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859280" y="692280"/>
            <a:ext cx="1973160" cy="25192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5280" y="335772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МЕНДЕЛЕЕВ Дмитрий Иванович (1834-1907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оссийский химик, разносторонний ученый, педаго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ткрыл (1869) периодический закон химических элементов — один из основных законов естествозна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ставил св. 500 печатных трудов, среди которых классические «Основы химии» (ч. 1-2, 1869-71, 13 изд., 1947) — первое стройное изложение неорганической хим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втор фундаментальных исследований по химии, химической технологии, физике, метрологии, воздухоплаванию, метеорологии, сельскому хозяйству, экономике, народному просвещению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аложил основы теории растворов, предложил промышленный способ фракционного разделения нефти, изобрел вид бездымного пороха, пропагандировал использование минеральных удобрений, орошение засушливых земел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дин из инициаторов создания Русского химического общества (1868). Профессор Петербургского университета (1865-90), ушел в отставку в знак протеста против притеснения студенче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рганизатор и первый директор (1893) Главной палаты мер и весов (ныне ВНИИ метрологии им. Менделеев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95640" y="115560"/>
            <a:ext cx="61308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ервая формулировка 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ериодического зак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716000" y="1628640"/>
            <a:ext cx="424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марта 186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г. Д.И. Менделеев опубликовал (в Журнале Русского Химического Общества) первую статью о периодическом законе на русском и французском языках, где впервые сформулировал Периодический зако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«…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Свойства элементов, а потому и свойства образуемых ими простых и сложных тел состоят в периодической зависимости от их атомного веса…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Таблица «Опыт системы элементов» (Д. И. Менделеев; 1869)"/>
          <p:cNvPicPr/>
          <p:nvPr/>
        </p:nvPicPr>
        <p:blipFill>
          <a:blip r:embed="rId1"/>
          <a:stretch/>
        </p:blipFill>
        <p:spPr>
          <a:xfrm>
            <a:off x="395280" y="1052640"/>
            <a:ext cx="4392720" cy="5805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6346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ущность открытия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.И. Менделе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518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ущность открытия Менделеев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с ростом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атомной масс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химических элементов их свойства меняютс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монотонно, а периодичес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личи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бот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енделеева от работ предшественников: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лассификация всех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звестных к тому времен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лементо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а основе их атомных масс и химических свойст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справи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томные масс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екоторых элементов (например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берилл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инд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ура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тор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цер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титана, иттр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мести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сколько элементов в своей системе вопреки принятым в то время представления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б их сходстве с другими (например, таллий, считавшийся щелочным металлом, он поместил в третью группу согласно его фактической максимальной валентности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тави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таблице пустые клетк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где должны были разместиться пока не открытые элементы. В 1875-1866 гг. открыты галлий (экаалюминий), скандий (экабор) и германий (экасилиц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7">
            <a:lum bright="4000"/>
          </a:blip>
          <a:stretch/>
        </p:blipFill>
        <p:spPr>
          <a:xfrm rot="5400000">
            <a:off x="6147360" y="1565640"/>
            <a:ext cx="2143080" cy="3421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649840" y="4508640"/>
            <a:ext cx="28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Первая периодическая табли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8"/>
          <a:stretch/>
        </p:blipFill>
        <p:spPr>
          <a:xfrm>
            <a:off x="324000" y="189000"/>
            <a:ext cx="122364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17:45:22Z</dcterms:created>
  <dc:creator>Toshiba</dc:creator>
  <dc:description/>
  <dc:language>en-US</dc:language>
  <cp:lastModifiedBy>User</cp:lastModifiedBy>
  <dcterms:modified xsi:type="dcterms:W3CDTF">2011-09-15T08:00:20Z</dcterms:modified>
  <cp:revision>141</cp:revision>
  <dc:subject/>
  <dc:title>Периодический закон  Д.И. Менделеева</dc:title>
</cp:coreProperties>
</file>